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png" ContentType="image/png"/>
  <Override PartName="/ppt/media/image10.wmf" ContentType="image/x-wmf"/>
  <Override PartName="/ppt/media/image11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72CE-3414-46A7-B68C-49061A57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079E-28DB-4D78-B80E-29399CCB1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2E2-F6BC-4B1D-AE6E-3C74B233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E315-C97F-46DF-8696-0FADDECB5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F35F-7231-4E98-BEDA-FB8ED42B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4534-3A7A-4DC9-B81E-81C6C49D0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3F36-A127-42B7-99D2-B05825D83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22A-F588-43C7-B3C4-7335B2ED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4AF3-B4EB-4D36-B22C-7E1520499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85BE-DEB7-49E8-B62D-9BA1B3B3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2958-599A-4508-B53F-E9F9ED2A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E91C-A5BC-4FB7-8146-3ABAB9A1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FF6-6A85-4966-A566-302EBD07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8471-C967-4DED-9F59-7624A076C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E65-6FAB-4B1F-B9AB-3A9737B1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4135-DF14-4077-8555-8F5DD07A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F05-852B-462C-9075-0522F3C1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496F-F1C4-4055-8B80-14F5F4BF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EA9D-DED1-40A7-9B51-CF02D3EA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642A-8E2E-4B4E-8BB3-2A13420B7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E1C3-39E7-4EC9-AED9-60C29C97E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2080-40D7-4B0F-BC55-6CA0417E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230D-3FEE-4367-A753-DC6B9C69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A130-58AA-429F-AE92-1F7CC0940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F7ED-474D-4120-AAB2-650F2B8EE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4EA8-B2EF-4C62-B857-7C19D72B3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51D-693A-4D79-B908-5856D12D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433-0489-4BB5-BC30-5589FDAFD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0863-8ACB-462D-AE5D-2DCA0AA6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9D75-3643-45C8-BBE6-262BD4C67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64D-7B45-4D91-8148-3166B310B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6A1D-1FA5-4053-8A7F-18C59CAAE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5D2-1427-46E8-A189-BAE322BF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B8AE-C94B-42DF-AF7A-510708FD4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08E7-0AE2-482A-ACAD-E1E2EAE8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47B4-0E4C-4FE6-AD0B-882D11A5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2A5-A430-46A7-BDDA-D80648A8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E5CA-B0C3-41AA-98EE-58906569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52D-F3CE-4645-A79C-5AB90208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CA3C-586E-4D50-BDD0-CAC3F34A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3F8-27DF-408C-A092-2D1A9851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249-086B-4217-95DA-70A9F7A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AA5-C1A3-492E-A985-AAC94790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CCE-2B4F-4C5E-B703-FA65BAB4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709-E2E3-4EDA-B20A-547DE47A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A0B-CAF0-4A23-9C52-040BFEDE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DF8-5C4C-4725-9A26-63BA350D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BF4-AF96-4C2C-AFF6-A52DDF205C1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2E0C-F00A-4689-922A-90D506A0B5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04920" y="6245280"/>
            <a:ext cx="837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0354-EDD7-46DA-8E53-3B36FB3BB4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92A-3DF5-4E58-BDDB-AAA17E1B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2512-588C-4A91-8786-830BC48064DA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4108-BFAD-41B4-9DAE-FF73D2FF1E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Žan Eskirol (1772-1840) zalaže se za Zakon o zaštiti duševnih bolesnika i izgradnju prikladnih psihijatrijskih ustanova. Eskirol je bio i prvi predavač psihijatrije, on usavršava Pinelovu klasifikaciju i organizuje terapiju mentalnih poremećaja. Ovo je period kada po pitanju etiologije dominira 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eklekticizam.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avode se traume glave, intoksikacije, venerična oboljenja, snažne emocije kao mogući uzroci psihijatrijskih oboljenj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9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BB8B-A603-4585-8270-753A08358C2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F895-6F2F-471C-9C9B-184E952BEB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ilhelm Grizinger (1817-1868) smatra da svaki psihijatrijski bolesnik mora biti eksplorisan i neurološki. Njegovo shvatanje o tzv. jedinstvenoj psihozi (</a:t>
            </a:r>
            <a:r>
              <a:rPr b="0" i="1" lang="sr-Latn-CS" sz="2800" spc="-1" strike="noStrike">
                <a:solidFill>
                  <a:srgbClr val="ffffff"/>
                </a:solidFill>
                <a:latin typeface="Arial"/>
              </a:rPr>
              <a:t>Einheipsychose)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predstavlja temelj buduće naučne psihijatrije. Prema Grizingeru razni uzroci mogu biti razlog za jedinstvenu psihozu a oblici psihotičnog ispoljavanja predstavljaju  samo stanje u toku jednog jedinstvenog morbogenog proces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AFD7-81EF-46F8-85D9-FB30430939C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F00C-CB18-4EEC-A22D-7A9DE18723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rel (1809-1873) je tvorac teorije o degeneraciji u psihijatrij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O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tvara učenje zasnovano na genetičkim premisama da, usled delovanja različitih morbogenih faktora, nastaje progresivna psihička degeneracija, koja iz generacije u generaciju sve više osiromašuje porodice po pitanju sve izraženije ekspresije niza mentalnih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E75C-A0B1-4497-ADED-42B638A4CB15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01C8-2328-4C37-A6FE-6FD7F6FBE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il Krepelin (1855-1926)  smatra da je psihijatrijska bolest skup simptoma-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indro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. On je rodonačelnik tzv. psihijatrije toka (posebno analize toka shizofrenije), kao i pojma funkcionalne psihoze koja podrazumeva nemogućnost anatomskog definisanja nekog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9076-4949-4CBC-9D40-7302D5D8062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D218-E86B-4A4E-9E2D-72F576DF2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vorac psihoanalize Sigmund Frojd (1856-1939) stvara originalni psihoanalitički metod i svoju topografsko-strukturalnu teoriju sa instancama ega, ida i superega. On revolucionarno menja klasičnu krepelinovsku psihijatriju unoseći novi duh i nove teorijske ali terapijske modalite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8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C66A-3BA6-4EFD-9DE1-681C10C5B03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532-BFDD-4076-8664-26720EA082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ugen Blojler (1857-1939) 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zalaga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za Frojdovu teoriju kao i psihoterapiju, posebno u tretmanu teških psihijatrijskih poremećaja poput shizofrenije. On je dotadašnji naziv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Demencija prekok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zamenio nazivom shizofrenija, koji znači rascep duševnog života.Time je ozvaničio činjenicu da demencija prekoks nema unapred negativan tok već da je moguć benigan tok i izlečenj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9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00A3-050B-4778-95BC-57C953A95A3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C2D7-0AA5-4D95-BC30-2EBCECC7A4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četkom XX veka, razmatraju se neke fundamentalne dileme u okviru psihijatrijske teorije i prakse kao što su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ganicizam ili psihoanaliz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nutrašnji (endogeni) ili spoljašnji (egzogeni) faktori u etiopatogenezi mentalnih oboljen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vijaju se refleksologija i fenomenolog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F07D-C837-4FFC-AE78-E0956C3128D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E97F-9489-4218-BFFB-5DACF60415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kon završetka II svetskog rata Svetska zdravstvena organizacija unosi niz modifikacija, između ostalog i u organizaciju rada psihijatrijske službe. Duševno zdravlje postaje briga celokupnog društva, svake društvene zajednice. Metodama lečenja sasvim ravnopravno priključuje se i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ocioterapij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u skladu sa dimenzimaja i sadržinom rada tzv.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socijalne psihijatri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7000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5FB4-D752-4583-B336-3506BF1110DB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550D-721C-4F1D-B633-1563353B9F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vešćemo neka od najznačajnijih naučnih dostignuća koja su unapredila, humanizovala i modifikovala savremenu psihijatrijsku nauk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Object 7"/>
          <p:cNvGraphicFramePr/>
          <p:nvPr/>
        </p:nvGraphicFramePr>
        <p:xfrm>
          <a:off x="0" y="4221000"/>
          <a:ext cx="9144000" cy="12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21000"/>
                    <a:ext cx="914400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3000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EC38-5DD4-4134-B47B-1DEC055D4C7D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6DE0-9E64-4B46-8938-FB641DA3A3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52. Žan Dele i Pjer Deniker izveštavaju o efektima hlorpromazina, prvog neurolepti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0. Kac Bernard dobija Nobelovu nagradu za otkriće neurotransmitera u nervnom sistem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7. godine dobijaju Nobelovu nagradu Rođer Guljemin i  Viktor Šali za otkriće neuropetida u moždanom tkiv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1979. godine Kormak Mekload i Godfri Njubold dobijaju Nobelovu nagradu za otkriće kompjuter-asistirane tomograf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9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ffffff"/>
                </a:solidFill>
                <a:latin typeface="Arial"/>
              </a:rPr>
              <a:t>Istorijski razvoj psihijatrij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Prof dr Minja Jovan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ffffff"/>
                </a:solidFill>
                <a:latin typeface="Arial"/>
              </a:rPr>
              <a:t>Fakultet medicinskih nau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1972-CEAC-4E94-B117-AE5F0471871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198-47D8-4217-88D1-A647A97327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981. Volkot Speri otkriva neuropsihološke specifičnosti funkcije leve i desne hemisf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2000. godine Arvid Karlson sa Grinardom i Kendelom dobija Nobelovu nagradu za  pionirski rad koji se tiče izučuvanja dopaminskog sistema i sprovođenja signala u CNS-u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2000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0459-4F32-456E-9AD7-E1F7DE39EE8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CEB9-C68D-4EB5-9367-05FDB8E1FF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vesno je da na osnovu razvoja psihijatrijske misli i nauke ne možemo postaviti jedinstvenu etiopatogenetsku koncepciju mentalnih oboljen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5406-3F73-4E34-82D1-4108BF71CD3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46DF-A60F-4480-AAC5-45E8B3F4A6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pravo raznovrsnost teorijskih ali i egzaktno naučnih dostignuća govore u prilog tome da u tumačenju psihičkih poremećaja moramo primeniti multifaktorijalne teorije koje su sinteza bio-psiho-socijalnih faktora, što ujedno i predstavlja integrativni trend ne samo u savremenoj psihijatriji već i u medicini uopš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SIHIJATRIJA, PSIHOPATOLOGIJA, PSIHOLO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PSIHIJATRIJA se bavi nastankom, razvitkom, kliničkom slikom i lečenjem psihičkih poremećaja i boles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86920" y="4508640"/>
            <a:ext cx="6689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SIHIJAT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6000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GRANE PSIHIJATRIJ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čja i adolescent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Geronto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Biol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ocij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mun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at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Sudsk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ranskulturalna psihijatr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xtztx"/>
          <p:cNvPicPr/>
          <p:nvPr/>
        </p:nvPicPr>
        <p:blipFill>
          <a:blip r:embed="rId1"/>
          <a:stretch/>
        </p:blipFill>
        <p:spPr>
          <a:xfrm>
            <a:off x="6659640" y="3068640"/>
            <a:ext cx="2052720" cy="2664000"/>
          </a:xfrm>
          <a:prstGeom prst="rect">
            <a:avLst/>
          </a:prstGeom>
          <a:ln w="0">
            <a:noFill/>
          </a:ln>
        </p:spPr>
      </p:pic>
    </p:spTree>
  </p:cSld>
  <p:transition advTm="19000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Arial"/>
              </a:rPr>
              <a:t>PRISTUPI U SUVREMENOJ PSIHIJATRIJ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Biološ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Psihološk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Socijaln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8000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OSNOVNA TERMINOLOGIJ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698480"/>
            <a:ext cx="8497800" cy="47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tom -  subjektivni znak bole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ak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bjektivna promena u ponašanju pojedin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 - skup simptoma koji se javlja u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kutno - bolest ili stanje koja se pojavljuje naglo i kratko tr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ronično - perzistentna bolest ili sta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ni uzrok - za koga se pretpostavlja da je izazvao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sponirajući faktori - organizam 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ispozicije za razvoj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cipitirajući faktori - trig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aktori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kidač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le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ržavajući faktori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koji održavaju bol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morbiditet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tovremeno pojavljivanje dve ili više boles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5000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BIOLOŠKI (MEDICINSKI)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is simp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avlj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ijagnoze (prema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ifikacijam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matranje etiologije (mogućeg uzroka boles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isiv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rap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viđanj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anticipir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4470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DIJAGNOZA U PSIHIJATRIJI I SOMATSKOJ MEDICIN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pisna (opisuje kliničku sliku): BAP (bipolarni afektivni poremećaj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ategorijalna: shizofren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2920" y="23320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tiološka (objašnjava uzrok): krvarenje, up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-itis), prel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6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925E-9D13-4DAB-831A-97E433CEAC82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A4BB-65BC-4B81-870A-9CA97B9ACC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sihijatrija je grana medicine koja po svojoj istorijskoj „definiciji“ pre svega podrazumeva veštinu lečenja. Savremena psihijatrija je opšte prihvaćena stručno-naučna disciplina, koja u okviru patologije savremenog čovečanstva dobija sve značajnije mesto, a u okviru drugih medicinskih disciplina značajan interdisciplinarni položaj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SIHIJATRIJSKI I TELESNI SIMPTOM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78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sihosomatika (ulkusna i ulcerozna bolest, arterijska hipertenzija, šećerna bolest, psorijaza, srčane bolesti, astma …)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omatopsihika (reakcija na ozbiljnu telesnu bol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elesne bolesti koje imitiraju sliku psihičkog poremeća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8040" y="3139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BOLEST - ZDRAVL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ihičko zdravlje 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dsustvo bolesti, odnosno simp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sihička bole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čovek je bolestan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k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ma simptome psihičke bolesti koji zadovoljavaju određene kriterijume (klasifikacijs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713560" y="1622520"/>
            <a:ext cx="1753920" cy="20286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2"/>
          <p:cNvGraphicFramePr/>
          <p:nvPr/>
        </p:nvGraphicFramePr>
        <p:xfrm>
          <a:off x="7810560" y="2203560"/>
          <a:ext cx="307800" cy="30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10560" y="2203560"/>
                    <a:ext cx="307800" cy="3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Picture 7" descr=""/>
          <p:cNvPicPr/>
          <p:nvPr/>
        </p:nvPicPr>
        <p:blipFill>
          <a:blip r:embed="rId4"/>
          <a:stretch/>
        </p:blipFill>
        <p:spPr>
          <a:xfrm>
            <a:off x="5707080" y="4016520"/>
            <a:ext cx="1766880" cy="20444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885080" y="4508640"/>
          <a:ext cx="304920" cy="30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85080" y="4508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20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ffff"/>
                </a:solidFill>
                <a:latin typeface="Arial"/>
              </a:rPr>
              <a:t>LJUDI MOGU PATITI OD ISTIH SMETNJI I DOBITI RAZLIČITU DIJAGNOZU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1103400" y="1841400"/>
          <a:ext cx="666108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841400"/>
                    <a:ext cx="666108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Oval 4"/>
          <p:cNvSpPr/>
          <p:nvPr/>
        </p:nvSpPr>
        <p:spPr>
          <a:xfrm>
            <a:off x="2268360" y="5877000"/>
            <a:ext cx="503280" cy="57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916360" y="5950080"/>
            <a:ext cx="4032000" cy="581400"/>
          </a:xfrm>
          <a:prstGeom prst="rect">
            <a:avLst/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Depresivni simp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2843280" y="623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0" y="2924280"/>
            <a:ext cx="1979640" cy="1366560"/>
          </a:xfrm>
          <a:prstGeom prst="cloudCallout">
            <a:avLst>
              <a:gd name="adj1" fmla="val 77986"/>
              <a:gd name="adj2" fmla="val -98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348000" y="4797360"/>
            <a:ext cx="1943280" cy="1297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708360" y="5229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lkoholič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227640" y="4653000"/>
            <a:ext cx="1368720" cy="1440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651672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50920" y="3141720"/>
            <a:ext cx="1368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Nesr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ć</a:t>
            </a:r>
            <a:r>
              <a:rPr b="0" lang="hr-HR" sz="2000" spc="-1" strike="noStrike">
                <a:solidFill>
                  <a:srgbClr val="ff3300"/>
                </a:solidFill>
                <a:latin typeface="Arial"/>
              </a:rPr>
              <a:t>no zaljubljena plavuš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imes New Roman"/>
              </a:rPr>
              <a:t>RAZLIČITE KLINIČKE SLIKE KOJE MOGU DOBITI ISTU DIJAGNOZ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835280" y="1844640"/>
          <a:ext cx="6478560" cy="37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478560" cy="37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Line 4"/>
          <p:cNvSpPr/>
          <p:nvPr/>
        </p:nvSpPr>
        <p:spPr>
          <a:xfrm>
            <a:off x="3132000" y="486900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08000" y="5734080"/>
            <a:ext cx="2519640" cy="1068840"/>
          </a:xfrm>
          <a:prstGeom prst="rect">
            <a:avLst/>
          </a:prstGeom>
          <a:solidFill>
            <a:srgbClr val="cc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gativna 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7380360" y="458136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948360" y="5661000"/>
            <a:ext cx="11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651640" y="5734080"/>
            <a:ext cx="266544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ozitivna 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A PAŽNJ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78D7-C4AE-4C1B-BF6B-20B9A8138F8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DF58-DBFC-4C79-92DB-2DCE724367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vi sistematični pomak u uslovno rečeno psihijatriji kao nauci čini Hipokrat (460-377 pne) koji je smatrao da su duševni poremećaji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poremećaji mozg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, a u skladu sa ovim shvatanjem predlaže i čitav niz terapijskih procedura (primena purgativa, obloga, kupke u sumpornoj vodi, kao i puštanje krvi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8D3C-B560-4195-9A24-76CB2DE408D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E99A-17AF-48CF-8827-0962287EE39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laton je nasuprot Aristotelu, smatrao da je sedište duše mozak a ne srce. Aristotel je u svom delu „O duši“ govorio o značaju emocija i opažanja odnosno o asocijaciji ideja, kao što je i ukazao na značaj tzv -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katarz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ili fenomena „psihičkog pražnjenja“ koji je kasnije našao i svoje mesto u teorijama Sigmunda Froj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6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C651-11A2-44F1-9388-4C268B6A139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DA7D-F475-4DD8-9905-412F296C68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 Srednjem veku posebno se ističe misao Tome Akvinskog koji govori o tri sloja psihičkog: vegetativnom (anima vegetativa) što bi približno odgovaralo autonomnom nervnom sistemu, senzitivnom (anima sensitiva) koja obuhvata opažanje, pamćenje, maštu, i intelektualnom (anima intellectiva) koja omogućava rešavanje problema i učenje iz iskustv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5EFA-7D30-40E6-9873-7587C51F143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4E5B-3EE1-4DE5-A8E6-7B6BDD3AB4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nesansa je iznedrila Paracelzijusa (1493-1541) koji je smatrao da su duševne bolesti posledica raznih  poremećenih hemijskih procesa. Ova prenaučna epoha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vršava se sa 17 vekom kada se psihijatrija  nazivala </a:t>
            </a:r>
            <a:r>
              <a:rPr b="0" i="1" lang="sr-Latn-CS" sz="3200" spc="-1" strike="noStrike">
                <a:solidFill>
                  <a:srgbClr val="ffffff"/>
                </a:solidFill>
                <a:latin typeface="Arial"/>
              </a:rPr>
              <a:t>demonologij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3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D599-B972-410E-AABD-D929FFE3E0AE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E281-6D9E-4F11-AAB5-D6C9228697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aučnu epohu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počinj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lip Pinel (1745-1826) koji se smatra reformatorom i čovekom koji je humanizovao odnos prema pacijentima u psihijatrijskim ustanovama. Ovo je doba Francuske revolucije koja ujedno označava i rađanje naučne psihijatrij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1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43D-AF48-4919-88AC-23CF048F1DB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2784-BDF4-42B9-944E-B4C2262B5A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Vilijem Kulen (1710-1790) daje sintezu dotadašnjih psihijatrijskih saznanja i objavljuje 1785 godine svoju medicinsku nozologiju (klasifikaciju mentalnih oboljenja). Kulen prvi upotrebljava termin neuroza i pridev neurotič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4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07:24:00Z</dcterms:created>
  <dc:creator>PROXIMA-1</dc:creator>
  <dc:description/>
  <dc:language>en-US</dc:language>
  <cp:lastModifiedBy>nmuric91@gmail.com</cp:lastModifiedBy>
  <dcterms:modified xsi:type="dcterms:W3CDTF">2020-10-01T10:59:23Z</dcterms:modified>
  <cp:revision>31</cp:revision>
  <dc:subject/>
  <dc:title>UVOD U PSIHIJATRIJU</dc:title>
</cp:coreProperties>
</file>